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91E-035F-44C5-B76D-ADA6C35C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C1FC-F944-4903-A823-C4D2A23B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028-F1BD-4973-A0E4-A3E62B99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7EBC-132C-4252-904D-005DC19C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689-5BEC-414B-B0FD-6C721857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B5CB-D8E5-494D-ABA3-BD3A12CD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696-3CA3-464C-B3FC-ED64DE6C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7C96-3E54-479A-9C0D-7F3771BB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640-B5A9-401A-98F5-ED36EE98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882-A7F4-4367-B2DF-AAA049E7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FD6-CDD8-4CD1-AF2C-BDDCB527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05F2-3949-48AB-98EF-1F3E6322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3679-4470-49FC-A629-681FBE77E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14800" y="4343400"/>
            <a:ext cx="13716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4824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 was w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1732.  He died in 1802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hopped down cherry trees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1809 He di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8:50:12Z</dcterms:created>
  <dc:creator>smuser</dc:creator>
  <dc:description/>
  <dc:language>en-US</dc:language>
  <cp:lastModifiedBy>smuser</cp:lastModifiedBy>
  <dcterms:modified xsi:type="dcterms:W3CDTF">2010-02-08T19:30:03Z</dcterms:modified>
  <cp:revision>2</cp:revision>
  <dc:subject/>
  <dc:title>Comparing Presidents</dc:title>
</cp:coreProperties>
</file>